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9625-E3B4-448E-A381-175D31EF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196-DC78-4F22-A83F-71D9EB8B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235-2373-40F4-8083-0842870A9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C58-78B0-4DAF-9606-8EDBA64E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4DA9-C56C-44F4-BF0D-1E5ECD84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0C6-FDA3-46EE-9E4F-86C33A70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0622-5993-4858-B954-0388723C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FE36-1C6F-4A8B-9BFB-C83C2EA7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6C5-D6CC-4293-9FAE-6C9863C3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996-9A74-42AC-8AA4-4764F8F8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D626-54F3-436B-945D-F7DF98E0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811-9CAA-4B4B-9E35-60AAEED0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531A-0CE0-46C5-B5BD-1F1C28B54B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0" y="0"/>
            <a:ext cx="7537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Mi nombre es _____ y nací en la ciudad _______ de Málaga en 1881. Desde pequeño ______ la pintura. Mi padre, pintor y ____________,  guió mis primeros pasos. Los _____ y las _________, qué eran sus _______ , poblaron _______ de mi infanc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studié arte en ________ , __________ y _____, pero la formación académica nunca me entusiasmó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Lo mío era buscar nuevos caminos y estar siempre _____________  e influencias nuevas._________‘El Quatre Gats’, en ________, era mi sitio ideal. Allí conocí a varios de mis grandes ________ poetas y pint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ero mi gran sueño era conocer _______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56520" y="3146400"/>
            <a:ext cx="85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b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74960" y="3727440"/>
            <a:ext cx="11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spaño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79440" y="3098880"/>
            <a:ext cx="117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me gust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08640" y="3108240"/>
            <a:ext cx="1917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profesor de ar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334656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or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23120" y="3755880"/>
            <a:ext cx="100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lo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32440" y="3575160"/>
            <a:ext cx="1136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pasio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3070080"/>
            <a:ext cx="1346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los dibuj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2898720"/>
            <a:ext cx="123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La Coruñ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3680" y="3794040"/>
            <a:ext cx="123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rcelo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5880" y="2841480"/>
            <a:ext cx="102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Madri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60920" y="2841480"/>
            <a:ext cx="170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abierto a ide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98640" y="3736800"/>
            <a:ext cx="965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El café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51040" y="3851280"/>
            <a:ext cx="1270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omic Sans MS"/>
              </a:rPr>
              <a:t>Barcelo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080" y="3546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mig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32120" y="353700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rí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6:48:29Z</dcterms:created>
  <dc:creator>Katy Oliver</dc:creator>
  <dc:description/>
  <dc:language>en-US</dc:language>
  <cp:lastModifiedBy>Katy Oliver</cp:lastModifiedBy>
  <dcterms:modified xsi:type="dcterms:W3CDTF">2012-03-02T06:48:30Z</dcterms:modified>
  <cp:revision>1</cp:revision>
  <dc:subject/>
  <dc:title>Slide 1</dc:title>
</cp:coreProperties>
</file>